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FAB0-945E-4F51-91DB-3BF99420FC9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20E9-6CD5-4214-84CF-F2A897E6CFFE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73E5-BC83-4FA9-9BD4-A05CB90B0737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F625-488D-4AEC-8038-85DDD4C358D3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1CF1-97A4-4817-85DF-68A8DD3C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B45B-59E4-470C-993A-E5B64DFC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40BE0-7807-48D8-84AE-BB18D4C9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DE2C6-0DAF-480D-A162-9F54F9EE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92EB1-BDBA-4C0B-9C6B-B7521CD0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65D91-4E1A-459D-83E2-22108D3C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45B3E-B091-454F-94EF-2B9F2AF4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A3E80-B95C-45CD-B1FF-EEA2AFE3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BE54A-5F84-4782-AD87-B999EB6B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DCA83-413C-42BD-A9C4-536EC7E78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9B868-7585-4ECF-8569-E2F073AC2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04C60-FD75-47E0-B24F-6E8419D5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AE87-624A-4958-A6EC-258B1152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57BF86-1BA6-4288-9258-241C4ACE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64E01-49D8-416A-94CB-20EF2A6E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14BDF-0635-47A2-AC0A-EFCBCBA2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46E45-E424-457A-A527-03610594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B781C9-7076-48F9-A7EC-CC5ABC1E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612790-F98C-4F23-8754-03B95C2B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1686E-070D-4631-AF16-3C233BC8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7333E-AC49-454A-BFBC-5CC8B527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F5E6A-2000-43F7-95A0-096CB7B6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8B6EE-DC15-49E9-A2F2-11F563E9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B583-17D5-4B5B-9785-915DA9A0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FE4C3-D4C0-44E5-ADFB-C72A6DB7E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3033E-CF72-4DE7-865B-3C2996A5B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9F8EB-F4AD-4250-89E5-90C06CB1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DC1CB-0463-4500-92D2-EE4627B4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69DAC-A34E-45C9-9733-5E8A8582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6EF32-12F0-4B52-84B9-E06C3BB8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4C5A4-2131-44B4-B4C1-E91970EE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33B97-514B-4F12-AC37-53877850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D2DF0-B3AA-4B60-8354-2E58749F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1AF19-C2C2-4B2D-A506-3625FE3E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9E4A-E9F1-4142-AD36-4CEB9A66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22514-4D21-4ECB-AF1E-7AF112E2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5C66C-70A1-4E6C-8B8B-8775B6C79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69E7A-3CC2-4DBB-812E-EFBA0876B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96A22D-5938-4F1C-9FDB-B657CBFC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3A875-7DD0-42E5-BF82-48FEB07E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1E57AC-9CC6-4466-8962-F2ADBD2D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885644-0593-4693-888F-9CA51ABA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164A0-271C-45EC-A469-002A3824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C28FCD-A544-4D9E-83B4-53620C4C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2F53CA-6F63-4305-A37A-100A8A05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7390-5053-4841-9109-9F6BA6AB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89A89-FC59-4DE2-83B8-B84EE95E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E5061-1AAF-4003-A130-3B43D131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5D8F2-3CE2-4EE5-B998-1D38765C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F92C72-C483-4B16-9677-3F79BFD5D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EEC1AE-1B21-4CC5-A42D-823B62F82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1DEDFA-F4E7-49B8-903E-3B59D835B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4DC046-AFF3-4DA5-A092-32015C19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D77956-7DAC-4274-8688-B151FFD8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25A6BC-81E5-49B7-B3F7-828CF360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B8F10D-57A9-4364-A2D2-9F659542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BACB-D67F-40D2-A4E5-DFE27B89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78299C-D773-4324-9AAA-B16BE83C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83A86D-7778-4050-B8D2-6F45C739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95D87E-55E4-4FFC-B7C3-59B7A18F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B32C8A-8CFA-42AC-B94A-FE714576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F75853-66F4-445E-B7F1-D9E7B5ED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6A78F0-7974-4852-9917-026D9852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7A26AE-6F88-444D-8B09-F688449C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D111DD-6428-4BF1-8BAE-3445D585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049738-09C6-4C57-A16A-01C5C917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DA3BCD-55FD-4675-AA91-B42BC5EE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2765-4AC0-4BDA-B53C-3FEDFDA8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1D6168-12FE-4AFF-8A04-45731089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3A0233-7EC5-409D-91CA-F8E0F379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1C9F12-4D0C-417F-91FF-52B44BE0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4388A9-FCE1-4D02-AE14-6A5E3F0C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46284B-3423-4D54-B9DB-4F8013BD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7A2B69-2136-4E28-BF1F-550F1E1C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BA701B-4B30-4868-9FF8-09EE7E90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09AA00-3DD4-445C-902F-6535A589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8BB5A5-36AE-4886-A3D9-A7F892E2C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7D9811-48D3-44F2-909D-59F931D42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7AEB-47DB-48FD-B10D-643CABD3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4986BE-6D4A-48D8-98C1-547515DE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3D13D6-ED7E-49CC-AC8B-058C975F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2C8F57-309E-4923-A548-9E65C840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0DFE28-8E5C-4B63-B3F9-681D0DEF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BC4A67-8C84-494F-B23D-E3166D48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CE53A3-EA84-4577-98CF-F2EE6683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5526AC-879C-449A-AE39-6DEEC15A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613249-F720-43AC-8AF2-F3C52929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B9EA06-635B-4931-897D-03249DF4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AED867-720D-461F-B454-13F1997A1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1A15-01B0-45E5-9EB8-F0224892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7FA6F9-85E7-4A16-A2FE-AE33A9F46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E034B3-E79B-44F5-9FA1-6C831B822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847BAD-4746-41C2-A16D-78547423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C03EA7-9DE5-4D6A-9BA1-BFDBDF2B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877757-DE38-46EE-B904-487496C3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4FA0CF-66B1-4909-BB96-C0096271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DB1BB6-DEBE-48ED-B2D9-2AB64569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64BD27-F50E-4A20-9D64-ED25CFFF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912C85-980E-42DA-A09A-EFF62E02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E849E6-8E0A-4EBF-88BA-4B26B6FD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5629-A739-44DC-A5C4-E89729C2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DD6B8B-99A1-48B0-B8BF-69ACB705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8EF0FC-20EB-4746-94C4-8B8A615C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B58C6D-CC37-47F0-82D1-8FDECF288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500E99-2200-411E-A102-E411A59A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0CE1AF-ED2D-4D43-A26F-3343B74C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8E8475-F77B-4907-B9C4-FF5E5CD1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197293-335F-4F56-86C4-DD993595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6C5DE5-1E3C-4C5B-89F5-E712A4C7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2AB52E-3020-43E8-B336-0E21E438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83D91D-308A-46E0-823A-6EB2BF47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4E82-0C01-45D5-8310-2BDCF401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6690-03D1-4315-AE81-15F198C1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51E10E-2658-46A6-8ABC-C85F72E5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E1A53D-7D52-45BA-9D55-B7D3F26A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E18B3E-796C-4F23-85F8-F1E057A6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A050BC-0FB6-4C7A-A9E7-9E463C48D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E86DF7-9BBE-4280-96F6-64B6C963C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58FC-97A8-41DC-AAAF-A7E78D9A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75E8-EA89-4840-9407-BB1BEE60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5907-8020-45A3-BF2B-E7A70938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A34D-CC14-48EE-9E9C-FC51CBAC7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78DAD-A6F8-4AC6-B5A1-A2292F90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27558-6165-4E97-AC98-89FA2B9C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E1867-7727-4C54-996D-C711B4CA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92F96-B3C2-42FF-9653-AF967165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35786-FC65-47D5-A3BD-2203AFC5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9F18-4574-490C-B3C8-4ABE40CE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7EB66-E6BE-49B0-9817-013F3FEC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2EB98-6E70-4302-AA7C-310CB62B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894DF-053C-4BF9-A30A-A6D43BAA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306F4-73CA-47C8-84BB-5682A9BE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11AD4-B476-41E2-AD6D-49D36C7B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6E19A-E692-4939-B4AE-096893E0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0563C-3271-4523-863E-7547E5371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7D721-A050-43E6-A071-44C22F964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0A174-A00E-4CBB-8720-4B463D0B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75C35-ECF7-416D-8EB5-19E1EE84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C831-24F4-4902-92A9-48DA916C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2FF09-252B-43F4-BA40-50B5C401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2C3A8-EB56-48A4-81B5-D4128220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2762D-2EAF-470B-9DAE-10175476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566C6-D38F-43B7-A93E-CBD3DEE1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A0492-B4EC-4C1D-A781-D8A1DE31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3AD5A-6DD6-42DC-93BE-A25B4620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15C2E-40CB-406B-B1EC-1A84A12E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EAA37-80C6-4A27-BD1F-9C068F02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E7817-CF76-43A0-BB07-C68832FDC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BB71A4-3D3A-43AB-B915-E84BD5409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7894-9C61-4B72-A267-5C1A0FF0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F96948-A0E1-4E42-8BBA-15FF0A6C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46B83C-A1C1-4A8D-A336-E3B70682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FE3ED7-A575-4E19-861E-AE7763FD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17F9FC-2E80-449F-8D9E-1B07AC20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8C25FC-D9E6-4740-AADC-A6AF47BD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D55047-0C2A-432F-A8DD-8504EEA0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822148-1E53-4E56-93B3-B30330BE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0A09EF-1B0C-4903-A05F-7309DFBC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3D7B85-EF3C-4C08-BA85-CE70AE7A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FEC6F2-9814-493D-B6CB-6C4FB818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5546-89CD-4A4E-B9C3-95C1573A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A0525A-D58E-41C6-AA6A-F1D4FFCB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85867-C6A7-4359-BC15-24A3F5A4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B1311-68D6-4187-9E35-B86C0B8F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DB63C-C378-479E-9F6D-974240BF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E02A4-272A-4426-9ED0-B0860F73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14C3F-ACBC-4697-AA08-56602469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A31FB-65E6-42A3-AABF-308D2821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18CD8-93C7-45A2-9953-FAFAE029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DDCAA-15F5-4982-A627-032EAB78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9C1A1-825F-4CB4-A88E-24CC63C3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F803-9CB4-4DBD-B46E-0551BE5B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3C4AD-129B-467B-8BC8-C20BF08B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CCB83-B7E3-4842-8DD4-0FAF7F1E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496F0-38CF-409C-9D0C-502337A7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EB68E-2B36-40A1-BA8E-BA82BBC5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5D462-35B7-458E-A574-1D10BEFF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A8246-C38A-476D-B8A5-DF488110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2EC05-03B7-4A6A-AC72-2070146C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4FC99-31F8-4C09-B4DB-08D1126A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E6CE2-01B6-49DD-A63C-DF8D767D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BFB11-CAD0-4B2F-A90F-0BC53B05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D451-87B1-4EA8-BFAF-97B47FB2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3C395-6C68-4330-B1EC-036A6874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9B29E-1F73-4907-9E0E-7281D304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70944-3DE4-4546-933B-2BE3ECA6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1E84F-938F-46FA-8B65-FC4BCFBE7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995A9-9495-447E-8E5E-C8399F313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D3A79-2F3E-4D81-AB2D-2828CECF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0C85D-D818-4B4A-BA70-3BA9929C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52A5C-6BE9-44B9-8371-C943B2A1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B2703-3DEE-47D7-B61A-6465533B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15810-B74F-4865-AB02-11FF00B4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509E-8D96-4342-8697-8788CF9F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AFD1A-E87E-4F16-B722-6851752E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EE2F4-CB80-497A-BF20-1ABC936C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73588-5553-4B81-A273-0B43B48F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2B363-7C9E-4AA0-8695-FD0DDEDF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8262C-A84B-4C03-97C7-2BA731E1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C09B0-5D81-4318-A7FE-A0F056B7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3BAE4-1110-49B6-8411-04EEB71F3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511D2-9FFB-4B17-AC81-A8B71EDE4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45B83-F002-4E64-8FE1-13128856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721F2-5382-448E-85E3-6EEB3FC3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ACAA-5D87-4276-BD4E-C99E0D7AC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13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14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9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29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DF22-6455-4EFD-870E-E4EAD9459F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763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5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766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9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770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3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3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3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8BE4-5F6D-4D57-BE36-00C116109057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3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814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5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6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817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21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3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824" name="Rectangle 10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6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827" name="Rectangle 11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31" name="Oval 13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dt" idx="3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ftr" idx="3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 type="sldNum" idx="3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2549-DC0A-4642-ACD9-93C22BB5CD79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4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875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7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878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0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1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82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3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3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3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ED6C-FDA0-4032-BA26-FBB5D398FC3E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926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AEA9-5357-46E6-B8E8-CC9338B37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5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986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F8DA-8B9A-4C8A-9AC2-3AAA6DE28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45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49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2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3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074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9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12CA-BAD6-41F7-8B48-B9CB3ED84F0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123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6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127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1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152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9365-DA9C-47A1-B65D-1B2F74C5A5F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02A0-413C-4DBE-9326-95D9BA4572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9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6A4B-3B75-466E-8FD8-EE53B33EBD3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36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37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51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5FEE-F776-434C-B224-6F1F570472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37DF-1ABB-4845-A031-704CBCEB3E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30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31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6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37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0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381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385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9033-44A4-47E9-8B37-6A79FD521A9C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29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3161-8C2A-49AA-A60C-997693162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77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1FB8-DDBD-4A04-BFA5-95B15DE2C30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2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2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3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25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AD8B-58A6-4486-98CB-6272D12AA94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La Casa para la Venta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Jessica Wr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8" name="Picture 5" descr="cool-houses-daily-module"/>
          <p:cNvPicPr/>
          <p:nvPr/>
        </p:nvPicPr>
        <p:blipFill>
          <a:blip r:embed="rId2"/>
          <a:stretch/>
        </p:blipFill>
        <p:spPr>
          <a:xfrm>
            <a:off x="2209680" y="838080"/>
            <a:ext cx="4800600" cy="3600720"/>
          </a:xfrm>
          <a:prstGeom prst="rect">
            <a:avLst/>
          </a:prstGeom>
          <a:ln w="0">
            <a:noFill/>
          </a:ln>
        </p:spPr>
      </p:pic>
      <p:sp>
        <p:nvSpPr>
          <p:cNvPr id="1209" name="Text Box 6"/>
          <p:cNvSpPr/>
          <p:nvPr/>
        </p:nvSpPr>
        <p:spPr>
          <a:xfrm>
            <a:off x="228600" y="4876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e285f"/>
                </a:solidFill>
                <a:latin typeface="Arial"/>
              </a:rPr>
              <a:t>La casa est</a:t>
            </a:r>
            <a:r>
              <a:rPr b="0" lang="en-US" sz="1800" spc="-1" strike="noStrike">
                <a:solidFill>
                  <a:srgbClr val="5e285f"/>
                </a:solidFill>
                <a:latin typeface="Arial"/>
                <a:ea typeface="Arial"/>
              </a:rPr>
              <a:t>à localizada en Cape Cod, Massachusetts. Està en la calle Locust. La casa cuesta $350,000. </a:t>
            </a:r>
            <a:r>
              <a:rPr b="0" lang="en-US" sz="1800" spc="-1" strike="noStrike">
                <a:solidFill>
                  <a:srgbClr val="5e285f"/>
                </a:solidFill>
                <a:latin typeface="Arial"/>
              </a:rPr>
              <a:t>La casa es grande, bella, y lujosa. </a:t>
            </a:r>
            <a:r>
              <a:rPr b="0" lang="en-US" sz="1800" spc="-1" strike="noStrike">
                <a:solidFill>
                  <a:srgbClr val="5e285f"/>
                </a:solidFill>
                <a:latin typeface="Arial"/>
                <a:ea typeface="Arial"/>
              </a:rPr>
              <a:t>La casa tiene dos pisos y doce caurtos. Los caurtos son grande. La casa tiene un garaje para dos carros tambie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0" name="Picture 5" descr="2428"/>
          <p:cNvPicPr/>
          <p:nvPr/>
        </p:nvPicPr>
        <p:blipFill>
          <a:blip r:embed="rId1"/>
          <a:stretch/>
        </p:blipFill>
        <p:spPr>
          <a:xfrm>
            <a:off x="2438280" y="228600"/>
            <a:ext cx="4162680" cy="3124080"/>
          </a:xfrm>
          <a:prstGeom prst="rect">
            <a:avLst/>
          </a:prstGeom>
          <a:ln w="0">
            <a:noFill/>
          </a:ln>
        </p:spPr>
      </p:pic>
      <p:sp>
        <p:nvSpPr>
          <p:cNvPr id="1211" name="Text Box 6"/>
          <p:cNvSpPr/>
          <p:nvPr/>
        </p:nvSpPr>
        <p:spPr>
          <a:xfrm>
            <a:off x="304920" y="350532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9248"/>
                </a:solidFill>
                <a:latin typeface="Arial"/>
              </a:rPr>
              <a:t>La casa tiene cuatro </a:t>
            </a:r>
            <a:r>
              <a:rPr b="0" lang="es-MX" sz="1800" spc="-1" strike="noStrike">
                <a:solidFill>
                  <a:srgbClr val="1a9248"/>
                </a:solidFill>
                <a:latin typeface="Arial"/>
              </a:rPr>
              <a:t>dormitorios grandes</a:t>
            </a:r>
            <a:r>
              <a:rPr b="0" lang="en-US" sz="1800" spc="-1" strike="noStrike">
                <a:solidFill>
                  <a:srgbClr val="1a9248"/>
                </a:solidFill>
                <a:latin typeface="Arial"/>
              </a:rPr>
              <a:t>. Los dormitorios son muy impresionante. Tienen un cama</a:t>
            </a:r>
            <a:r>
              <a:rPr b="0" lang="en-US" sz="1800" spc="-1" strike="noStrike">
                <a:solidFill>
                  <a:srgbClr val="1a9248"/>
                </a:solidFill>
                <a:latin typeface="Arial"/>
                <a:ea typeface="Arial"/>
              </a:rPr>
              <a:t> grande y un amario grande. Tienen muchas ventanas con persianas. </a:t>
            </a:r>
            <a:r>
              <a:rPr b="0" lang="en-US" sz="1800" spc="-1" strike="noStrike">
                <a:solidFill>
                  <a:srgbClr val="1a9248"/>
                </a:solidFill>
                <a:latin typeface="Arial"/>
              </a:rPr>
              <a:t>Dos dormitorios tienen un ban</a:t>
            </a:r>
            <a:r>
              <a:rPr b="0" lang="en-US" sz="1800" spc="-1" strike="noStrike">
                <a:solidFill>
                  <a:srgbClr val="1a9248"/>
                </a:solidFill>
                <a:latin typeface="Arial"/>
                <a:ea typeface="Arial"/>
              </a:rPr>
              <a:t>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Picture 7" descr="11_400x300"/>
          <p:cNvPicPr/>
          <p:nvPr/>
        </p:nvPicPr>
        <p:blipFill>
          <a:blip r:embed="rId1"/>
          <a:stretch/>
        </p:blipFill>
        <p:spPr>
          <a:xfrm>
            <a:off x="2514600" y="3049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213" name="Text Box 8"/>
          <p:cNvSpPr/>
          <p:nvPr/>
        </p:nvSpPr>
        <p:spPr>
          <a:xfrm>
            <a:off x="228600" y="34290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8db4"/>
                </a:solidFill>
                <a:latin typeface="Arial"/>
              </a:rPr>
              <a:t>La casa tiene cuatro ban</a:t>
            </a:r>
            <a:r>
              <a:rPr b="0" lang="en-US" sz="1800" spc="-1" strike="noStrike">
                <a:solidFill>
                  <a:srgbClr val="108db4"/>
                </a:solidFill>
                <a:latin typeface="Arial"/>
                <a:ea typeface="Arial"/>
              </a:rPr>
              <a:t>os. Tres  </a:t>
            </a:r>
            <a:r>
              <a:rPr b="0" lang="en-US" sz="1800" spc="-1" strike="noStrike">
                <a:solidFill>
                  <a:srgbClr val="108db4"/>
                </a:solidFill>
                <a:latin typeface="Arial"/>
              </a:rPr>
              <a:t>banos tienen un retrete, una ducha, un fregadero, una ban</a:t>
            </a:r>
            <a:r>
              <a:rPr b="0" lang="en-US" sz="1800" spc="-1" strike="noStrike">
                <a:solidFill>
                  <a:srgbClr val="108db4"/>
                </a:solidFill>
                <a:latin typeface="Arial"/>
                <a:ea typeface="Arial"/>
              </a:rPr>
              <a:t></a:t>
            </a:r>
            <a:r>
              <a:rPr b="0" lang="en-US" sz="1800" spc="-1" strike="noStrike">
                <a:solidFill>
                  <a:srgbClr val="108db4"/>
                </a:solidFill>
                <a:latin typeface="Arial"/>
              </a:rPr>
              <a:t>era, un espejo, y un gabinete de medicina. Uno bano tiene un retrete, una gabinete de medicina, una lavadora, y una secadora. Uno ban</a:t>
            </a:r>
            <a:r>
              <a:rPr b="0" lang="en-US" sz="1800" spc="-1" strike="noStrike">
                <a:solidFill>
                  <a:srgbClr val="108db4"/>
                </a:solidFill>
                <a:latin typeface="Arial"/>
                <a:ea typeface="Arial"/>
              </a:rPr>
              <a:t>o esta en la planta baja y Tres banos esta en el primer pis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Picture 5" descr="top-kitchen-10"/>
          <p:cNvPicPr/>
          <p:nvPr/>
        </p:nvPicPr>
        <p:blipFill>
          <a:blip r:embed="rId1"/>
          <a:stretch/>
        </p:blipFill>
        <p:spPr>
          <a:xfrm>
            <a:off x="2362320" y="304920"/>
            <a:ext cx="4457520" cy="3314520"/>
          </a:xfrm>
          <a:prstGeom prst="rect">
            <a:avLst/>
          </a:prstGeom>
          <a:ln w="0">
            <a:noFill/>
          </a:ln>
        </p:spPr>
      </p:pic>
      <p:sp>
        <p:nvSpPr>
          <p:cNvPr id="1215" name="Text Box 6"/>
          <p:cNvSpPr/>
          <p:nvPr/>
        </p:nvSpPr>
        <p:spPr>
          <a:xfrm>
            <a:off x="152280" y="373392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1560"/>
                </a:solidFill>
                <a:latin typeface="Arial"/>
              </a:rPr>
              <a:t>La casa tiene uno cocina. La cocina es moderna y grande. Tiene un refrigerador, un fregadero, un horno, y muchos gabinet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6" name="Picture 5" descr="living+room+concept"/>
          <p:cNvPicPr/>
          <p:nvPr/>
        </p:nvPicPr>
        <p:blipFill>
          <a:blip r:embed="rId1"/>
          <a:stretch/>
        </p:blipFill>
        <p:spPr>
          <a:xfrm>
            <a:off x="2514600" y="2286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17" name="Text Box 6"/>
          <p:cNvSpPr/>
          <p:nvPr/>
        </p:nvSpPr>
        <p:spPr>
          <a:xfrm>
            <a:off x="228600" y="34290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 casa tiene una sala. La sala es muy impresionante. Tiene un televisi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ón grande, una sofá, y una mesa pequen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8" name="Picture 5" descr="http://www.google.com/url?source=imglanding&amp;ct=img&amp;q=http://www.theperfectdecor.com/ProductImages/casual_dining_F2122_poundex.jpg&amp;sa=X&amp;ei=IaS6T--nBazR6gGowMGyBw&amp;ved=0CAwQ8wc&amp;usg=AFQjCNFjquZ_r67VSlT0bk9Yhm-odcOGUA"/>
          <p:cNvPicPr/>
          <p:nvPr/>
        </p:nvPicPr>
        <p:blipFill>
          <a:blip r:embed="rId2"/>
          <a:stretch/>
        </p:blipFill>
        <p:spPr>
          <a:xfrm>
            <a:off x="1905120" y="228600"/>
            <a:ext cx="5333760" cy="3529080"/>
          </a:xfrm>
          <a:prstGeom prst="rect">
            <a:avLst/>
          </a:prstGeom>
          <a:ln w="0">
            <a:noFill/>
          </a:ln>
        </p:spPr>
      </p:pic>
      <p:sp>
        <p:nvSpPr>
          <p:cNvPr id="1219" name=""/>
          <p:cNvSpPr/>
          <p:nvPr/>
        </p:nvSpPr>
        <p:spPr>
          <a:xfrm>
            <a:off x="380880" y="403848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casa tiene un comedor grande. El comedor tiene una mesa y ocho sill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0" name="Picture 2" descr="http://www.google.com/url?source=imglanding&amp;ct=img&amp;q=http://images.frontdoor.com/FDOOR/articles/Maximum-Value-Projects/Big-Ticket-Upgrades-%20Pools/garden-pool.jpg&amp;sa=X&amp;ei=xaS6T627KYuN6QGLkdn3Cg&amp;ved=0CAsQ8wc4Eg&amp;usg=AFQjCNGqulzMyWeEO2Bb4btfx1wAzgTzzQ"/>
          <p:cNvPicPr/>
          <p:nvPr/>
        </p:nvPicPr>
        <p:blipFill>
          <a:blip r:embed="rId1"/>
          <a:stretch/>
        </p:blipFill>
        <p:spPr>
          <a:xfrm>
            <a:off x="2022480" y="152280"/>
            <a:ext cx="4800600" cy="3600720"/>
          </a:xfrm>
          <a:prstGeom prst="rect">
            <a:avLst/>
          </a:prstGeom>
          <a:ln w="0">
            <a:noFill/>
          </a:ln>
        </p:spPr>
      </p:pic>
      <p:sp>
        <p:nvSpPr>
          <p:cNvPr id="1221" name=""/>
          <p:cNvSpPr/>
          <p:nvPr/>
        </p:nvSpPr>
        <p:spPr>
          <a:xfrm>
            <a:off x="380880" y="396252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casa tiene  una yarda muy grande. La yarda tiene una piscina y un porche. La yarda es mag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c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6:53:03Z</dcterms:created>
  <dc:creator>wrightjes</dc:creator>
  <dc:description/>
  <dc:language>en-US</dc:language>
  <cp:lastModifiedBy>jessica</cp:lastModifiedBy>
  <dcterms:modified xsi:type="dcterms:W3CDTF">2012-05-22T13:23:36Z</dcterms:modified>
  <cp:revision>9</cp:revision>
  <dc:subject/>
  <dc:title>Slide 1</dc:title>
</cp:coreProperties>
</file>